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1C7-CCE2-4938-90BC-2A0B65A9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AB6-6F91-4304-8A27-ECD486E1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39B-734F-450A-B92B-94421977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9F8-70CD-4578-9337-DDC40A7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5CE7-F197-4581-A199-AE9201C8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4364-C747-4ECF-B3AE-6548387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30B1-2083-4CC1-9D8A-D8F8BF8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F201-2936-443C-9D97-A65AC68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95E-44B1-4161-A1A5-C0D5F52F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90D-853B-4E4A-BAE5-3CA750B5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4FF0-DD03-441F-A3A4-C430B41F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ABB-2111-42DC-B90E-54CD1B3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2C0-3631-4CB9-BCE6-9CD8058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8CFA-AF05-428C-9403-3C17FE7B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D6E6-42B6-4542-9756-C7AF570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B024-E47F-4761-AC8D-3A2EB1E0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278F-D821-44B8-92E3-E9A9E9A5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C816-623E-4D87-9F19-7CA40DA7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047D-D742-4185-BAA3-0FD0260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7BFD-0FC1-4FF2-802C-D85CCFF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81C0-82F4-45DA-861B-2C217CC9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42E82-38C1-4EBA-A468-853DD53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097-3DD7-4605-BF00-40608707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DC0D-96EE-43A9-B4E2-5C1FE22D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8700-E8C6-4539-A882-340E572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AC55-1FD4-4392-B5F0-1434751F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8310-2291-4044-B462-7A22740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7A3C-7B42-46CF-9FE4-3210E95A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0F41-EC22-4FE1-AA3D-811E97C0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C810-51AD-4EBB-A495-3574842F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B01-827A-4FA9-B06B-0B702029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5AA-C75D-45D8-8A23-9C9B636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ACB-BF4C-4545-9BCC-2D48509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120-F328-43D3-94A6-ECC3539B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D60-8B08-4FC1-A741-EF5080E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FA7-B3AB-4DB2-BD26-FC35158D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7CF-4283-4FBD-8A0C-FB2CC7223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0CF0-854B-4C1F-8E8E-506B68561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73A8-FA38-48EC-A146-92D013F7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../Evaluare/FORMULARUL%20DE%20REACTIE%20LA%20PREZENTARE.doc" TargetMode="External"/><Relationship Id="rId3" Type="http://schemas.openxmlformats.org/officeDocument/2006/relationships/hyperlink" Target="file:///../Evaluare/Feedback.doc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Evaluare/Descriptori%20pentru%20evaluarea%20prezentarii%204,3,2,1.doc" TargetMode="External"/><Relationship Id="rId2" Type="http://schemas.openxmlformats.org/officeDocument/2006/relationships/hyperlink" Target="file:///../Evaluare/Descriptori%20pentru%20evaluarea%20prezentarii%204,3,2,1.doc" TargetMode="External"/><Relationship Id="rId3" Type="http://schemas.openxmlformats.org/officeDocument/2006/relationships/hyperlink" Target="file:///../Evaluare/Descriptori%20pentru%20evaluarea%20prezentarii%204,3,2,1.doc" TargetMode="External"/><Relationship Id="rId4" Type="http://schemas.openxmlformats.org/officeDocument/2006/relationships/hyperlink" Target="file:///../Evaluare/Descriptori%20pentru%20evaluarea%20prezentarii%204,3,2,1.doc" TargetMode="External"/><Relationship Id="rId5" Type="http://schemas.openxmlformats.org/officeDocument/2006/relationships/hyperlink" Target="file:///../Evaluare/Descriptori%20pentru%20evaluarea%20prezentarii%204,3,2,1.doc" TargetMode="External"/><Relationship Id="rId6" Type="http://schemas.openxmlformats.org/officeDocument/2006/relationships/hyperlink" Target="file:///../Evaluare/Descriptori%20pentru%20evaluarea%20prezentarii%204,3,2,1.doc" TargetMode="External"/><Relationship Id="rId7" Type="http://schemas.openxmlformats.org/officeDocument/2006/relationships/hyperlink" Target="file:///../Evaluare/Descriptori%20pentru%20evaluarea%20prezentarii%204,3,2,1.doc" TargetMode="External"/><Relationship Id="rId8" Type="http://schemas.openxmlformats.org/officeDocument/2006/relationships/hyperlink" Target="file:///../Evaluare/Lista%20de%20verificare%20publicatie.doc" TargetMode="External"/><Relationship Id="rId9" Type="http://schemas.openxmlformats.org/officeDocument/2006/relationships/hyperlink" Target="file:///../Evaluare/Lista%20de%20verificare%20publicatie.doc" TargetMode="External"/><Relationship Id="rId10" Type="http://schemas.openxmlformats.org/officeDocument/2006/relationships/hyperlink" Target="file:///../Evaluare/Lista%20de%20verificare%20publicatie.doc" TargetMode="External"/><Relationship Id="rId11" Type="http://schemas.openxmlformats.org/officeDocument/2006/relationships/hyperlink" Target="file:///../Evaluare/Lista%20de%20verificare%20publicatie.doc" TargetMode="External"/><Relationship Id="rId12" Type="http://schemas.openxmlformats.org/officeDocument/2006/relationships/hyperlink" Target="file:///../Evaluare/Lista%20de%20verificare%20publicatie.doc" TargetMode="External"/><Relationship Id="rId13" Type="http://schemas.openxmlformats.org/officeDocument/2006/relationships/hyperlink" Target="file:///../Evaluare/Lista%20de%20verificare%20publicatie.doc" TargetMode="External"/><Relationship Id="rId14" Type="http://schemas.openxmlformats.org/officeDocument/2006/relationships/hyperlink" Target="file:///../Evaluare/Lista%20de%20verificare%20publicatie.doc" TargetMode="External"/><Relationship Id="rId15" Type="http://schemas.openxmlformats.org/officeDocument/2006/relationships/hyperlink" Target="file:///../Evaluare/Lista%20de%20verificare%20publicatie.doc" TargetMode="External"/><Relationship Id="rId16" Type="http://schemas.openxmlformats.org/officeDocument/2006/relationships/hyperlink" Target="file:///../Evaluare/Lista%20de%20verificare%20publicatie.doc" TargetMode="External"/><Relationship Id="rId17" Type="http://schemas.openxmlformats.org/officeDocument/2006/relationships/hyperlink" Target="file:///../Evaluare/Lista%20de%20verificare%20publicatie.doc" TargetMode="External"/><Relationship Id="rId18" Type="http://schemas.openxmlformats.org/officeDocument/2006/relationships/hyperlink" Target="file:///../Evaluare/Evaluare%20pag%20wiki.doc" TargetMode="External"/><Relationship Id="rId19" Type="http://schemas.openxmlformats.org/officeDocument/2006/relationships/hyperlink" Target="file:///../Evaluare/Jurnal%20individual.doc" TargetMode="External"/><Relationship Id="rId20" Type="http://schemas.openxmlformats.org/officeDocument/2006/relationships/hyperlink" Target="file:///../Evaluare/Barem%20de%20evaluare%20proiect.doc" TargetMode="External"/><Relationship Id="rId21" Type="http://schemas.openxmlformats.org/officeDocument/2006/relationships/hyperlink" Target="file:///../Evaluare/Barem%20de%20evaluare%20proiect.doc" TargetMode="External"/><Relationship Id="rId22" Type="http://schemas.openxmlformats.org/officeDocument/2006/relationships/hyperlink" Target="file:///../Evaluare/Descriptori%20pentru%20evaluarea%20prezentarii%204,3,2,1.doc" TargetMode="External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waybuilder.net/sweethaven/MedTech/Neurologie" TargetMode="External"/><Relationship Id="rId3" Type="http://schemas.openxmlformats.org/officeDocument/2006/relationships/hyperlink" Target="http://ro.wikipedia.org/wiki/Sistem_nervos_vegetativ" TargetMode="External"/><Relationship Id="rId4" Type="http://schemas.openxmlformats.org/officeDocument/2006/relationships/hyperlink" Target="http://mrpitbull.3x.ro/" TargetMode="External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 rot="184800">
            <a:off x="572760" y="504720"/>
            <a:ext cx="7958160" cy="635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 poţi face cu 100 de miliarde de neuron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8876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320364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187280" y="18900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Evaluarea proiect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620640"/>
            <a:ext cx="5796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mbrii fiecarei grupe vor  desemna un purtator de cuvant pentru grupa respe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 va solicita elevilor sa incarce produsele lor pe o pagina wiki sau blog ;colegii pot  furniza reactii  creind  noi subpagini in wiki pentru observatii (sau pe blog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entru colectarea reactiilor in timp ce se prezinta portofoliul unui elev; fiecare grupa va avea de  completat un formular tiparit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formularul de reactie la  prezentare)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mular care va fi completat si de  catre profesor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 pentru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iecare grupa in parte ; se va tine cont de reactiile elevilor in stabilirea notei /grupa respectiva( daca acestea sunt pertinente si  argumentate cor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iecare grupa va primi un 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ormular pentru feedback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-ul proiectulu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967280" cy="6524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843280" y="1341360"/>
            <a:ext cx="5905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... 100 de miliarde de neuroni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317600" y="171360"/>
            <a:ext cx="6512040" cy="6512040"/>
            <a:chOff x="1317600" y="171360"/>
            <a:chExt cx="6512040" cy="6512040"/>
          </a:xfrm>
        </p:grpSpPr>
        <p:sp>
          <p:nvSpPr>
            <p:cNvPr id="125" name="_s6197"/>
            <p:cNvSpPr/>
            <p:nvPr/>
          </p:nvSpPr>
          <p:spPr>
            <a:xfrm flipH="1" flipV="1">
              <a:off x="3419280" y="2276640"/>
              <a:ext cx="57816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6187"/>
            <p:cNvSpPr/>
            <p:nvPr/>
          </p:nvSpPr>
          <p:spPr>
            <a:xfrm>
              <a:off x="2031840" y="887400"/>
              <a:ext cx="162900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ii distrug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6196"/>
            <p:cNvSpPr/>
            <p:nvPr/>
          </p:nvSpPr>
          <p:spPr>
            <a:xfrm flipH="1">
              <a:off x="2942640" y="3427560"/>
              <a:ext cx="816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6160"/>
            <p:cNvSpPr/>
            <p:nvPr/>
          </p:nvSpPr>
          <p:spPr>
            <a:xfrm>
              <a:off x="1317600" y="2612880"/>
              <a:ext cx="162864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ii pot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oteja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6195"/>
            <p:cNvSpPr/>
            <p:nvPr/>
          </p:nvSpPr>
          <p:spPr>
            <a:xfrm flipH="1">
              <a:off x="3420720" y="4002120"/>
              <a:ext cx="576360" cy="577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6158"/>
            <p:cNvSpPr/>
            <p:nvPr/>
          </p:nvSpPr>
          <p:spPr>
            <a:xfrm>
              <a:off x="2031840" y="4338720"/>
              <a:ext cx="162900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 faci fa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6194"/>
            <p:cNvSpPr/>
            <p:nvPr/>
          </p:nvSpPr>
          <p:spPr>
            <a:xfrm>
              <a:off x="4572000" y="4240080"/>
              <a:ext cx="1440" cy="816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6170"/>
            <p:cNvSpPr/>
            <p:nvPr/>
          </p:nvSpPr>
          <p:spPr>
            <a:xfrm>
              <a:off x="3757680" y="5054760"/>
              <a:ext cx="162864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 poti f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u e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6193"/>
            <p:cNvSpPr/>
            <p:nvPr/>
          </p:nvSpPr>
          <p:spPr>
            <a:xfrm>
              <a:off x="5146560" y="4002120"/>
              <a:ext cx="57780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6168"/>
            <p:cNvSpPr/>
            <p:nvPr/>
          </p:nvSpPr>
          <p:spPr>
            <a:xfrm>
              <a:off x="5484600" y="4340160"/>
              <a:ext cx="162900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grupeaza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6192"/>
            <p:cNvSpPr/>
            <p:nvPr/>
          </p:nvSpPr>
          <p:spPr>
            <a:xfrm>
              <a:off x="5384880" y="3427560"/>
              <a:ext cx="815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6166"/>
            <p:cNvSpPr/>
            <p:nvPr/>
          </p:nvSpPr>
          <p:spPr>
            <a:xfrm>
              <a:off x="6200640" y="2612880"/>
              <a:ext cx="162900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um su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alcatuiti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6191"/>
            <p:cNvSpPr/>
            <p:nvPr/>
          </p:nvSpPr>
          <p:spPr>
            <a:xfrm flipV="1">
              <a:off x="5146560" y="2276640"/>
              <a:ext cx="57636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6164"/>
            <p:cNvSpPr/>
            <p:nvPr/>
          </p:nvSpPr>
          <p:spPr>
            <a:xfrm>
              <a:off x="5484600" y="885960"/>
              <a:ext cx="162900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ati avem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6190"/>
            <p:cNvSpPr/>
            <p:nvPr/>
          </p:nvSpPr>
          <p:spPr>
            <a:xfrm flipV="1">
              <a:off x="4572000" y="1800360"/>
              <a:ext cx="0" cy="814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6162"/>
            <p:cNvSpPr/>
            <p:nvPr/>
          </p:nvSpPr>
          <p:spPr>
            <a:xfrm>
              <a:off x="3757680" y="171360"/>
              <a:ext cx="1628640" cy="1629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 sunt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6156"/>
            <p:cNvSpPr/>
            <p:nvPr/>
          </p:nvSpPr>
          <p:spPr>
            <a:xfrm>
              <a:off x="3757680" y="2614680"/>
              <a:ext cx="1628640" cy="1628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NEURON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70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 parcursul studierii acestei unit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ţi de învăţare 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i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avea de 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at o prezentare  ppt si o  publicaţie  despre sistemul nervos pentru fiecare grupa de 3 elevi;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ublicaţia va fi realizată în Publisher şi va fi contine informatii despre factorii   nocivi cu efect  asupra sistemului nervos, despre efectele lor si despre                                                                            comportamentele profilactice recomanda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 Rounded MT Bold"/>
              </a:rPr>
              <a:t>Folosiţi toate instrumentele de control furnizate pe parcursul derulării proiectulu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st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ă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erifica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rezent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ist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ă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verifica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ublica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ţ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i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listă verificare si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jurnal de reflecţi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grilă de scorare investigaţie şi prezent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ul fie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 ore v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pleta jurnalul de refle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 Timp de lucru: 5 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 Rounded MT Bold"/>
              </a:rPr>
              <a:t>Folosiţi pentru alcătuirea prezentării finale: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o-RO" sz="1400" spc="-1" strike="noStrike" u="sng">
                <a:solidFill>
                  <a:srgbClr val="009999"/>
                </a:solidFill>
                <a:uFillTx/>
                <a:latin typeface="Arial Rounded MT Bold"/>
                <a:hlinkClick r:id="rId22"/>
              </a:rPr>
              <a:t>descriptori evaluare _prezent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3"/>
          <a:stretch/>
        </p:blipFill>
        <p:spPr>
          <a:xfrm>
            <a:off x="0" y="1052640"/>
            <a:ext cx="21034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4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960"/>
                            </p:stCondLst>
                            <p:childTnLst>
                              <p:par>
                                <p:cTn id="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80840" y="333000"/>
            <a:ext cx="7894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Localizarea, morfologia si anatomia organelor nervo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8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 ce forma intalnim grupate componentele neuronale in organele nervo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localizarea structurilor albe si cenusii in nevr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corespondent intalniti pentru fiecare structurile nervoase centrale  in sistemul nervos perife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bliografi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D  N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Craciun Dan – coordonator de proiect,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de anatomie ,  Ed. Steaua Nord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 Ene Stelica si colaboratorii,  Biologie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nual pentru clasa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 XI a,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. Gimnasium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5812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340000" y="907560"/>
            <a:ext cx="680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In activitatea urmatoare se va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prezenta tema efectuata dupa cerinta anterioara ;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evalua tema pentru acasă a unui coleg (nu trebuie să fie aceleaşi grupuri  ca şi la tema pentru  acas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formula in fiecare grupa o intrebare privitoare la prezentarea facuta pe tema prop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rebarile vor fi postate pe blog, nefiind permisa repetarea intrebarilor celorlalte gru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2627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Circuite neurona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7210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cai de comunicare identificati intre componentele sistemului nerv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sunt reflexele?                                                                                                 Ce rol au componentele albe si cenusii in realizarea unui refl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grad de interdependenta gasiti intre reflexele inchise la diferite niveluri nervoas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f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  Ene Stelica si colaboratorii,  Biologie, manual pentru clasa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XI a, Ed. Gimnasium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Niculescu Th. Cezar si colaboratorii , Anatomia si fiziologia omului – compendiu,  Ed. Corint, Bucuresti, 2001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e educationale AeL – SC SIVECO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du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as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didactic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51640" y="1341360"/>
            <a:ext cx="1476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484000" y="981000"/>
            <a:ext cx="66596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 activitatea urmatoare se vor: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ezinta temele efectuate pe subiectul „Circuite neuronale”, ( cate un reprezentant al fiecarei  grup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ansa intrebari de discutie pe tema propus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 o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zb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e baza informatiilor acumulate prin activitate individua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24591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203640" cy="5877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51280" y="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ro-RO" sz="2000" spc="-1" strike="noStrike">
                <a:solidFill>
                  <a:srgbClr val="ff0000"/>
                </a:solidFill>
                <a:latin typeface="Comic Sans MS"/>
              </a:rPr>
              <a:t>actori de influienta si rezultatele actiunii lor asupra structurii si </a:t>
            </a:r>
            <a:br>
              <a:rPr sz="2000"/>
            </a:br>
            <a:r>
              <a:rPr b="0" lang="ro-RO" sz="2000" spc="-1" strike="noStrike">
                <a:solidFill>
                  <a:srgbClr val="ff0000"/>
                </a:solidFill>
                <a:latin typeface="Comic Sans MS"/>
              </a:rPr>
              <a:t>     functiei sistemului nervo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981000"/>
            <a:ext cx="637236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e sunt factorii externi ce influienteaza activitatea sistemului nerv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e modificari structurale si functionale apar ca urmare a lezarii structurilor nervoa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e tehnici actuale de studiu si diagnoza in patologia nervoasa ati putea descrie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re sunt consecintele lezari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elor nervoase?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bliografie</a:t>
            </a:r>
            <a:r>
              <a:rPr b="0" lang="ro-RO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aybuilder.net/sweethaven/MedTech/Neurologie</a:t>
            </a:r>
            <a:r>
              <a:rPr b="0" lang="ro-RO" sz="1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o.wikipedia.org/wiki/Sistem_nervos_vegeta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o.altermedia.info/stiintatehnologie/aditivii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ttp://www.metas.com.br/drogas/drogas3.</a:t>
            </a:r>
            <a:r>
              <a:rPr b="0" lang="ro-RO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t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rpitbull.3x.ro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340000" y="620280"/>
            <a:ext cx="680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 activitatea urmatoare se vor: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 publicatii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 dezbateri pe marginea subiectelor prezent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 publicatiile de catre profesor si elevi pe baza criteriilor anun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1034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9:35:29Z</dcterms:created>
  <dc:creator>Lab1</dc:creator>
  <dc:description/>
  <dc:language>en-US</dc:language>
  <cp:lastModifiedBy>ANTON</cp:lastModifiedBy>
  <dcterms:modified xsi:type="dcterms:W3CDTF">2008-01-19T19:54:28Z</dcterms:modified>
  <cp:revision>11</cp:revision>
  <dc:subject/>
  <dc:title>Diapozitivul 1</dc:title>
</cp:coreProperties>
</file>